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1827-0489-4A91-BE0E-83B05CD91B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une: x=9,2; y=3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odell von Olaf Kopitetz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95D5-E434-4850-B958-9A05680D3E7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3C92-9167-4EAB-AEBC-125FE53D991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mplitude der einzelnen Peaks abhängig von den Störungen am jeweiligen Ort des BP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d Peaks skalieren mit der Betafunktion am Ort des BP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EL keine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EL: Natürliche Macropulse des Lasers. Pulsabstände in Abhängigkeit vom Strom. Bei uns jedoch langes Platea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ozess bricht frühzeitig ab, weil Kohärenzbedingungen für das Lasing nicht mehr gegeben s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9F01-32DB-4D1C-B4FB-6BC98BB6351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(t) Regelgröß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m(t) Messw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(t) Führungsgröß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(t) Stellgröß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hi(s)=arctan(Im(G(s))/Re(G(s)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uppenlaufzeit taug(o)=dPhi(i*o)/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hasenlaufzeit taup(o)=-Phi(i*o)/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onstante Gruppenlaufzeit oder lineare Phasenlaufzeit = Verzerrungsfreies Sig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(s)=G(s)*U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(s)=S(s)*U(s)+D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(s)=R(s)*Ym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m(s)=M(s)*Y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ach Y(s)/D(s) auflösen ergibt: 1/(1 - S(s)*R(s)*M(s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 Spektralbereich bei linearen Systemen Änderung des Signals nur in Amplitude und Phase. Differentialgleichungen im Zeitbereich als algebraische Gleichungen im Spektralbere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(s)(an*s^n+a1*s+a0)=U(s)(bq*s^q+b1*s+b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(s)=Y(s)/U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&lt;=n: Kausale Syst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eitinvarianz: Konstante Koeffizienten bei der D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7B63-6BBE-4C1F-8D9F-9BE42F1B968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eitabhängigkeit und Übersteuern erklären. Begrenzte Steigungs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332E-77EB-4E47-8895-D5C650C82A5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esponsematrix aufnehmen (jeden Korrektor auslenken), ergibt eine Zeile in der nicht invertierten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ür jeden Korrektor ausfüh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Überbestimmtes Gleichungssystem, Singulärwertzerlegung, Beste Approximation im Sinne kleinster Fehlerquad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=U S V^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^(-1) = V S^T U^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A3E0-D6C2-4F64-8144-9BDC333A42C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FFE-120F-4C92-AA74-604D0EBE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E5C-33D8-4FFF-9E64-E3A242CB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222-E0FE-4EC0-B2F3-9019F449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945-0C04-40CF-84A4-85B23666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7FAC-0CEE-4415-BEE6-83E08F79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4144-BAD0-4FAE-B0F6-79293D92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2111-FE63-40CA-A7BA-9F527083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FA8E-A8CE-4B47-9C36-5BDE4B07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8FBC-AA8F-4BC0-B760-26CF1DB8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07172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FC68-89CF-4B44-9BFC-65A82D86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A3F1-AFC8-49E5-A234-9E1332B1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AE6-B2E3-4E58-B154-18E5D40A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0C85-61F1-4928-B3BE-C07CE382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C3EE-5F62-4520-B6F3-83BA47F5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8D41-264D-4D0B-94F8-29803F75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6C2B-A429-4110-81C8-ECDEFD1B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59E1-99EA-462E-88FA-9C531984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36B-4B90-4F44-A972-9F1C4E15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AC1-9F27-47CF-B3CD-F715A4EE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73C-B8C3-4612-A02B-A78CA49D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07172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446-99CA-4271-A958-C40BC53F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C49-2416-48F6-BECD-23B32BC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04E-484D-46AD-A7F1-105FE6F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666-5895-4B37-8B26-90190B5D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CD24-9887-4895-BF67-99730E7B1E3C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Dokumente und Einstellungen\Locutus\Desktop\TULogo\TU_logo_farbig\lo_TU-Do 2008\logo_rgb_jpg\tud_logo_rgb.jpg"/>
          <p:cNvPicPr/>
          <p:nvPr/>
        </p:nvPicPr>
        <p:blipFill>
          <a:blip r:embed="rId2"/>
          <a:stretch/>
        </p:blipFill>
        <p:spPr>
          <a:xfrm>
            <a:off x="500040" y="357120"/>
            <a:ext cx="3000240" cy="48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Y:\Programming\FPGA\xilinx\fpga\patryk\final\diplomarbeit\Poster\delta-logo2.png"/>
          <p:cNvPicPr/>
          <p:nvPr/>
        </p:nvPicPr>
        <p:blipFill>
          <a:blip r:embed="rId3"/>
          <a:stretch/>
        </p:blipFill>
        <p:spPr>
          <a:xfrm>
            <a:off x="7715160" y="214200"/>
            <a:ext cx="96372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kumente und Einstellungen\Locutus\Desktop\TULogo\TU_logo_farbig\lo_TU-Do 2008\logo_rgb_jpg\tud_logo_rgb.jpg"/>
          <p:cNvPicPr/>
          <p:nvPr/>
        </p:nvPicPr>
        <p:blipFill>
          <a:blip r:embed="rId2"/>
          <a:stretch/>
        </p:blipFill>
        <p:spPr>
          <a:xfrm>
            <a:off x="500040" y="357120"/>
            <a:ext cx="300024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Y:\Programming\FPGA\xilinx\fpga\patryk\final\diplomarbeit\Poster\delta-logo2.png"/>
          <p:cNvPicPr/>
          <p:nvPr/>
        </p:nvPicPr>
        <p:blipFill>
          <a:blip r:embed="rId3"/>
          <a:stretch/>
        </p:blipFill>
        <p:spPr>
          <a:xfrm>
            <a:off x="7715160" y="214200"/>
            <a:ext cx="963720" cy="7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Y:\Diplomarbeit_kopiert_bis_auf_groß\Ausarbeitung\Grafiken\delta_aussen.jpg"/>
          <p:cNvPicPr/>
          <p:nvPr/>
        </p:nvPicPr>
        <p:blipFill>
          <a:blip r:embed="rId4"/>
          <a:stretch/>
        </p:blipFill>
        <p:spPr>
          <a:xfrm>
            <a:off x="-714240" y="-214200"/>
            <a:ext cx="11852280" cy="7072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C092-CA8D-4B4A-B9EA-7FCEF6592B01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chnelle Orbitkorrektursyste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ortrag im Rahmen de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ollaborationstreffens am 27.11.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7375e"/>
                </a:solidFill>
                <a:latin typeface="Calibri"/>
              </a:rPr>
              <a:t>Patryk Towal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as Programm „RING Explorer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2285640"/>
            <a:ext cx="8115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rmöglicht bei bekannter Optik und bei Kenntnis der freien Stellen für den Magneteinbau die Optimierung der Position und Stärke der Korrekurmagn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muliert die Auswirkungen der Orbitkorrektur und erlaubt eine direkte Einschätzung der Nichtlokalität der Korrektur, die sich abhängig von der Position der Korrektoren und BPMs einstel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A30F-09DD-4777-B7B4-1B1F4C960C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Y:\Promotion\Timeline\2009 11 27 Projekttreffen GSI Darmstadt\regui.emf"/>
          <p:cNvPicPr/>
          <p:nvPr/>
        </p:nvPicPr>
        <p:blipFill>
          <a:blip r:embed="rId1"/>
          <a:stretch/>
        </p:blipFill>
        <p:spPr>
          <a:xfrm>
            <a:off x="2030400" y="2097000"/>
            <a:ext cx="52056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ledig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Prototypen für Spulen bestellt (DELT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Programm zur Berechnung der Korrektorstärken und -positionen „RING Explorer“ erstell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Noch zu tu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MAD8 COSY Modell funktionsfähig (danke an Raimund Tölle et.al.), aber Konverter für MATLAB Accelerator Toolbox muss noch fertiggestellt wer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Weiterentwicklung des CST STUDIO Modell der Spulen (mit Eisenjoc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Danke: Gerrit Schünemann, Peter Hartmann, Olaf Kopitetzki und Holger Hu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BC7C-0E28-45B5-B06D-4D91B51C14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E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hal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2285640"/>
            <a:ext cx="56149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utzen einer schnellen Orbitkorrekt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orrektursyst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fbau und Performance der schnellen lokalen Orbitkorrektur an DEL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orbereitungen für die schnelle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global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Orbitkorrektur an DELTA, COSY und SIS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as Programm „RING Explorer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ammenfass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DD6E-CEAF-4475-B5D5-5751A8BC38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ußzeilenplatzhalt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Motivation der schnellen Orbitkorrekt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4400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m Delta Speicherring wurde an 7 schnellen BPMs das Spektrum der Strahlschwingungen ermitte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ispiel: Vertikal an BPM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Störungen von 50Hz und deren Harmonisch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Magnetträgerschwingun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Störungen während der Booster-Ramp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250Hz Störung des F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=&gt; Entscheidung zum Aufbau einer schnellen Orbitkorrekt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2D73-CE4E-4D38-941C-8D74250F4B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Y:\Promotion\Timeline\2009 11 27 Projekttreffen GSI Darmstadt\typical_beam_motion.wmf"/>
          <p:cNvPicPr/>
          <p:nvPr/>
        </p:nvPicPr>
        <p:blipFill>
          <a:blip r:embed="rId1"/>
          <a:stretch/>
        </p:blipFill>
        <p:spPr>
          <a:xfrm>
            <a:off x="4743360" y="2743200"/>
            <a:ext cx="4168800" cy="301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Y:\Promotion\Timeline\2009 11 27 Projekttreffen GSI Darmstadt\felmacropulse.jpg"/>
          <p:cNvPicPr/>
          <p:nvPr/>
        </p:nvPicPr>
        <p:blipFill>
          <a:blip r:embed="rId2"/>
          <a:stretch/>
        </p:blipFill>
        <p:spPr>
          <a:xfrm>
            <a:off x="4529160" y="3333600"/>
            <a:ext cx="3902040" cy="268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Dokumente und Einstellungen\Locutus\Desktop\bpm_pos.wmf"/>
          <p:cNvPicPr/>
          <p:nvPr/>
        </p:nvPicPr>
        <p:blipFill>
          <a:blip r:embed="rId3"/>
          <a:stretch/>
        </p:blipFill>
        <p:spPr>
          <a:xfrm>
            <a:off x="5168880" y="3597120"/>
            <a:ext cx="3670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Korrektursyste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gelkreis, Grundlage: Lineare, zeitinvariante Syst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eschreibung mit Hilfe von Übertragungsfunktionen im komplexen Spektralbereich (Laplace-Transformation). Faltung des Signals mit Sinus- und Exponentialfunktio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örübertragungsfunk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382D-ACDD-4CE2-946F-CC254FD252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Y:\Promotion\Timeline\2009 11 27 Projekttreffen GSI Darmstadt\regelkreis.wmf"/>
          <p:cNvPicPr/>
          <p:nvPr/>
        </p:nvPicPr>
        <p:blipFill>
          <a:blip r:embed="rId1"/>
          <a:stretch/>
        </p:blipFill>
        <p:spPr>
          <a:xfrm>
            <a:off x="928800" y="4429080"/>
            <a:ext cx="5808600" cy="165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3643200"/>
            <a:ext cx="287352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86240" y="4357800"/>
            <a:ext cx="16430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imulation der schnellen lokalen Orbitkorrektur an DEL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estimmung der Übertragungsfunktionen von Vakuumkammer, Netzteilen und Magn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mulation mit MATLAB Simu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B4A2-F1A4-4E7A-B00E-77C96D8FA1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Y:\Promotion\Timeline\2009 11 27 Projekttreffen GSI Darmstadt\simulink_aufbau.wmf"/>
          <p:cNvPicPr/>
          <p:nvPr/>
        </p:nvPicPr>
        <p:blipFill>
          <a:blip r:embed="rId1"/>
          <a:stretch/>
        </p:blipFill>
        <p:spPr>
          <a:xfrm>
            <a:off x="523800" y="3670200"/>
            <a:ext cx="6510240" cy="2621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Y:\Promotion\Timeline\2009 11 27 Projekttreffen GSI Darmstadt\simulink_simulation.wmf"/>
          <p:cNvPicPr/>
          <p:nvPr/>
        </p:nvPicPr>
        <p:blipFill>
          <a:blip r:embed="rId2"/>
          <a:stretch/>
        </p:blipFill>
        <p:spPr>
          <a:xfrm>
            <a:off x="4529160" y="311040"/>
            <a:ext cx="4322880" cy="6381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Dokumente und Einstellungen\Locutus\Desktop\vk_frequenzgang.wmf"/>
          <p:cNvPicPr/>
          <p:nvPr/>
        </p:nvPicPr>
        <p:blipFill>
          <a:blip r:embed="rId3"/>
          <a:stretch/>
        </p:blipFill>
        <p:spPr>
          <a:xfrm>
            <a:off x="4383000" y="3382920"/>
            <a:ext cx="43401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Aufbau und Funktionsweise der schnellen lokalen Orbitkorrektur an DEL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285640"/>
            <a:ext cx="4186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fgebaut im Bereich des F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orrektur mit Hilfe der SV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Y:\Promotion\Timeline\2009 11 27 Projekttreffen GSI Darmstadt\delta.wmf"/>
          <p:cNvPicPr/>
          <p:nvPr/>
        </p:nvPicPr>
        <p:blipFill>
          <a:blip r:embed="rId1"/>
          <a:stretch/>
        </p:blipFill>
        <p:spPr>
          <a:xfrm>
            <a:off x="1857240" y="3000240"/>
            <a:ext cx="5353200" cy="3156120"/>
          </a:xfrm>
          <a:prstGeom prst="rect">
            <a:avLst/>
          </a:prstGeom>
          <a:ln w="0">
            <a:noFill/>
          </a:ln>
        </p:spPr>
      </p:pic>
      <p:sp>
        <p:nvSpPr>
          <p:cNvPr id="129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B215-C945-48BA-B1F9-0707D8723C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Y:\Promotion\Timeline\2009 11 27 Projekttreffen GSI Darmstadt\korr_bpm_feedback.wmf"/>
          <p:cNvPicPr/>
          <p:nvPr/>
        </p:nvPicPr>
        <p:blipFill>
          <a:blip r:embed="rId2"/>
          <a:stretch/>
        </p:blipFill>
        <p:spPr>
          <a:xfrm>
            <a:off x="1243080" y="3816360"/>
            <a:ext cx="6589800" cy="2517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kumente und Einstellungen\Locutus\Desktop\svd.wmf"/>
          <p:cNvPicPr/>
          <p:nvPr/>
        </p:nvPicPr>
        <p:blipFill>
          <a:blip r:embed="rId3"/>
          <a:stretch/>
        </p:blipFill>
        <p:spPr>
          <a:xfrm>
            <a:off x="2309760" y="3243240"/>
            <a:ext cx="3713040" cy="3108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000760" y="4643280"/>
            <a:ext cx="947520" cy="324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072040" y="3429000"/>
            <a:ext cx="787320" cy="282600"/>
          </a:xfrm>
          <a:prstGeom prst="rect">
            <a:avLst/>
          </a:prstGeom>
          <a:ln w="0">
            <a:noFill/>
          </a:ln>
        </p:spPr>
      </p:pic>
      <p:sp>
        <p:nvSpPr>
          <p:cNvPr id="136" name="Textfeld 14"/>
          <p:cNvSpPr/>
          <p:nvPr/>
        </p:nvSpPr>
        <p:spPr>
          <a:xfrm>
            <a:off x="6000840" y="528624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x: Orb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: Korrektorstär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: Response-Matr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uppieren 20"/>
          <p:cNvGrpSpPr/>
          <p:nvPr/>
        </p:nvGrpSpPr>
        <p:grpSpPr>
          <a:xfrm>
            <a:off x="642960" y="2928960"/>
            <a:ext cx="6429240" cy="1947960"/>
            <a:chOff x="642960" y="2928960"/>
            <a:chExt cx="6429240" cy="1947960"/>
          </a:xfrm>
        </p:grpSpPr>
        <p:pic>
          <p:nvPicPr>
            <p:cNvPr id="138" name="Picture 4" descr="C:\Dokumente und Einstellungen\Locutus\Desktop\fban.wmf"/>
            <p:cNvPicPr/>
            <p:nvPr/>
          </p:nvPicPr>
          <p:blipFill>
            <a:blip r:embed="rId1"/>
            <a:stretch/>
          </p:blipFill>
          <p:spPr>
            <a:xfrm>
              <a:off x="4160520" y="2928960"/>
              <a:ext cx="2911680" cy="19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C:\Dokumente und Einstellungen\Locutus\Desktop\fbaus.wmf"/>
            <p:cNvPicPr/>
            <p:nvPr/>
          </p:nvPicPr>
          <p:blipFill>
            <a:blip r:embed="rId2"/>
            <a:stretch/>
          </p:blipFill>
          <p:spPr>
            <a:xfrm>
              <a:off x="642960" y="2928960"/>
              <a:ext cx="2946960" cy="19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Ellipse 16"/>
            <p:cNvSpPr/>
            <p:nvPr/>
          </p:nvSpPr>
          <p:spPr>
            <a:xfrm>
              <a:off x="4617720" y="3991320"/>
              <a:ext cx="896040" cy="765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feld 13"/>
            <p:cNvSpPr/>
            <p:nvPr/>
          </p:nvSpPr>
          <p:spPr>
            <a:xfrm>
              <a:off x="2205000" y="3162240"/>
              <a:ext cx="130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Feedback a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feld 12"/>
            <p:cNvSpPr/>
            <p:nvPr/>
          </p:nvSpPr>
          <p:spPr>
            <a:xfrm>
              <a:off x="5582880" y="3162240"/>
              <a:ext cx="117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Feedback a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Ellipse 17"/>
            <p:cNvSpPr/>
            <p:nvPr/>
          </p:nvSpPr>
          <p:spPr>
            <a:xfrm>
              <a:off x="1101960" y="3034800"/>
              <a:ext cx="896040" cy="1594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Performance der schnellen lokalen Orbitkorrektur an DEL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ei einer Frequenz von 50Hz konnte eine Dämpfung von          -20dB  erreicht werden. Dies entspricht einer Reduktion auf 1/100 der ursprünglichen Leistung. Grenzfrequenz: 350H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8A8C-7862-4B42-8755-71D21E80C7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Y:\Promotion\Timeline\2009 11 27 Projekttreffen GSI Darmstadt\feedback_compare.wmf"/>
          <p:cNvPicPr/>
          <p:nvPr/>
        </p:nvPicPr>
        <p:blipFill>
          <a:blip r:embed="rId3"/>
          <a:stretch/>
        </p:blipFill>
        <p:spPr>
          <a:xfrm>
            <a:off x="1884240" y="2170080"/>
            <a:ext cx="2962440" cy="2219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Y:\Promotion\Timeline\2009 11 27 Projekttreffen GSI Darmstadt\xup_magnitude_bpm14_bpm15.wmf"/>
          <p:cNvPicPr/>
          <p:nvPr/>
        </p:nvPicPr>
        <p:blipFill>
          <a:blip r:embed="rId4"/>
          <a:stretch/>
        </p:blipFill>
        <p:spPr>
          <a:xfrm>
            <a:off x="5529240" y="2170080"/>
            <a:ext cx="30178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Herausforderungen beim Aufbau der schnellen globalen Orbitkorrekt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5640"/>
            <a:ext cx="44719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zeit werden vertikale Korrektoren (mit Eisenjoch) verwendet: B=12mT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=0,3mrad bei I=10A; L=28c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ur wenige freie Stellen für neue Magnete vorhanden, aber 9 freie Stellen ca. 10cm Läng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nforderungen an neue Korrektoren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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0,1mrad bei L=10cm (als Luftspu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5AEF-A559-4E2A-82A2-3402D8EFF6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Y:\Promotion\Timeline\2009 11 27 Projekttreffen GSI Darmstadt\fofbkorr.jpg"/>
          <p:cNvPicPr/>
          <p:nvPr/>
        </p:nvPicPr>
        <p:blipFill>
          <a:blip r:embed="rId1"/>
          <a:stretch/>
        </p:blipFill>
        <p:spPr>
          <a:xfrm>
            <a:off x="4992840" y="2206800"/>
            <a:ext cx="3870000" cy="260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Dokumente und Einstellungen\Locutus\Desktop\fofbkorrzoom.jpg"/>
          <p:cNvPicPr/>
          <p:nvPr/>
        </p:nvPicPr>
        <p:blipFill>
          <a:blip r:embed="rId2"/>
          <a:stretch/>
        </p:blipFill>
        <p:spPr>
          <a:xfrm>
            <a:off x="4883040" y="3743280"/>
            <a:ext cx="2071800" cy="1719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Y:\Promotion\Timeline\2009 11 27 Projekttreffen GSI Darmstadt\fofbfreikurz.jpg"/>
          <p:cNvPicPr/>
          <p:nvPr/>
        </p:nvPicPr>
        <p:blipFill>
          <a:blip r:embed="rId3"/>
          <a:stretch/>
        </p:blipFill>
        <p:spPr>
          <a:xfrm>
            <a:off x="4780080" y="3560760"/>
            <a:ext cx="36446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Neue Korrektoren für die schnelle globale Orbitkorrektur an DEL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2285640"/>
            <a:ext cx="8186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rste Simulationen der neuen Magnete mit CST MICROWAVE STUDIO (links: vertikal, rechts: horizon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2803-2D61-4056-AF99-E0932DDC09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Y:\Promotion\Timeline\2009 11 27 Projekttreffen GSI Darmstadt\hkf.jpg"/>
          <p:cNvPicPr/>
          <p:nvPr/>
        </p:nvPicPr>
        <p:blipFill>
          <a:blip r:embed="rId1"/>
          <a:stretch/>
        </p:blipFill>
        <p:spPr>
          <a:xfrm>
            <a:off x="4456080" y="3597120"/>
            <a:ext cx="4260960" cy="264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Y:\Promotion\Timeline\2009 11 27 Projekttreffen GSI Darmstadt\vkf.jpg"/>
          <p:cNvPicPr/>
          <p:nvPr/>
        </p:nvPicPr>
        <p:blipFill>
          <a:blip r:embed="rId2"/>
          <a:stretch/>
        </p:blipFill>
        <p:spPr>
          <a:xfrm>
            <a:off x="743040" y="3170160"/>
            <a:ext cx="45180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42:51Z</dcterms:created>
  <dc:creator> </dc:creator>
  <dc:description/>
  <dc:language>en-US</dc:language>
  <cp:lastModifiedBy>Forck</cp:lastModifiedBy>
  <dcterms:modified xsi:type="dcterms:W3CDTF">2009-12-03T13:50:44Z</dcterms:modified>
  <cp:revision>303</cp:revision>
  <dc:subject/>
  <dc:title>Folie 1</dc:title>
</cp:coreProperties>
</file>